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11.gif" ContentType="image/gi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22B-8304-45BF-99D0-875B3AFF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9D7-05C8-40C1-BD53-96093D42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4D0-FD4D-442C-A4C0-7D8395D5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644-80B0-42D8-BC8E-B73EB853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D4D5-9D26-4957-9838-C0B0C2A5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DF7B-80D7-4651-8FE6-6E3C99E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0CB-6B01-457F-A079-E734478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2660-E60E-40A6-BD9F-FFFEA897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3765-80E1-4858-8C8D-28D3DAD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893C-3346-45A8-A405-C33BF6B7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5A6-E89D-4AFC-8E79-516FCBE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F41-3543-4A12-9630-184790F4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976-0F77-4141-B92D-5B1F164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87BF-7E16-427C-8981-3D87F0E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8DEB-7C40-49FC-8426-DD7FE6C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73A-4959-44F3-BA6C-FA27EAB5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EC8D-1C5F-4EF2-A7BB-5CD5EA95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9AD-2152-4E35-BC58-67C5F7A6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462-F586-425E-A407-52DBD72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0B6-D027-4220-83CB-F4B1E62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A8C-83C9-482D-83A2-2452BC7C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909-46A6-4884-A345-F46D908D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BCF-C675-4039-8E14-15025B3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762-8D41-42D2-9D9E-C4AB6A2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6982-F2A3-4FBD-99C0-D124BEEB87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AEA6-60E1-4F66-921E-7C4FC9E087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>
                <a:solidFill>
                  <a:srgbClr val="ffffcc"/>
                </a:solidFill>
                <a:latin typeface="Arial"/>
              </a:rPr>
              <a:t>Powerpoint</a:t>
            </a:r>
            <a:br>
              <a:rPr sz="5700"/>
            </a:b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Ramb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89216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03560" y="2565360"/>
            <a:ext cx="3305160" cy="3430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56360" y="2421000"/>
            <a:ext cx="2158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Because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398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Bo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Confus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2288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2-4 Key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1.   AB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2. DE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3. GH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cc"/>
                </a:solidFill>
                <a:latin typeface="Arial"/>
              </a:rPr>
              <a:t>Simplicity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AU" sz="4000" spc="-1" strike="noStrike">
                <a:solidFill>
                  <a:srgbClr val="eaeaea"/>
                </a:solidFill>
                <a:latin typeface="Verdana"/>
              </a:rPr>
              <a:t>Everything should be made as simple as possible but not simpler” – Einstei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What the . . . .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1600200"/>
            <a:ext cx="4038120" cy="2188800"/>
            <a:chOff x="457200" y="1600200"/>
            <a:chExt cx="4038120" cy="2188800"/>
          </a:xfrm>
        </p:grpSpPr>
        <p:cxnSp>
          <p:nvCxnSpPr>
            <p:cNvPr id="157" name="_s20493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2963880" y="1987200"/>
              <a:ext cx="438480" cy="1414080"/>
            </a:xfrm>
            <a:prstGeom prst="bentConnector3">
              <a:avLst>
                <a:gd name="adj1" fmla="val 2087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20492"/>
            <p:cNvCxnSpPr>
              <a:stCxn id="161" idx="0"/>
              <a:endCxn id="159" idx="2"/>
            </p:cNvCxnSpPr>
            <p:nvPr/>
          </p:nvCxnSpPr>
          <p:spPr>
            <a:xfrm flipV="1">
              <a:off x="2476080" y="2475360"/>
              <a:ext cx="1800" cy="438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2" name="_s20491"/>
            <p:cNvCxnSpPr>
              <a:stCxn id="163" idx="0"/>
              <a:endCxn id="159" idx="2"/>
            </p:cNvCxnSpPr>
            <p:nvPr/>
          </p:nvCxnSpPr>
          <p:spPr>
            <a:xfrm flipH="1" flipV="1" rot="5400000">
              <a:off x="1550160" y="1987560"/>
              <a:ext cx="438480" cy="1414080"/>
            </a:xfrm>
            <a:prstGeom prst="bentConnector3">
              <a:avLst>
                <a:gd name="adj1" fmla="val 2087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9" name="_s20487"/>
            <p:cNvSpPr/>
            <p:nvPr/>
          </p:nvSpPr>
          <p:spPr>
            <a:xfrm>
              <a:off x="1870560" y="160020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So if we start here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_s20488"/>
            <p:cNvSpPr/>
            <p:nvPr/>
          </p:nvSpPr>
          <p:spPr>
            <a:xfrm>
              <a:off x="45720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Then look at this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_s20489"/>
            <p:cNvSpPr/>
            <p:nvPr/>
          </p:nvSpPr>
          <p:spPr>
            <a:xfrm>
              <a:off x="187056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And have a read of this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_s20490"/>
            <p:cNvSpPr/>
            <p:nvPr/>
          </p:nvSpPr>
          <p:spPr>
            <a:xfrm>
              <a:off x="3283920" y="2913480"/>
              <a:ext cx="1211400" cy="875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eaeaea"/>
                  </a:solidFill>
                  <a:latin typeface="Verdana"/>
                </a:rPr>
                <a:t>We can now see 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5025960" y="1600200"/>
          <a:ext cx="3281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5720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09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Z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$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A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ghui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7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??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892160" cy="1997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71640" y="350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422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3357720"/>
            <a:ext cx="50472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3141720"/>
            <a:ext cx="1008000" cy="1512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84760" y="3941640"/>
            <a:ext cx="1967040" cy="1778040"/>
            <a:chOff x="5684760" y="3941640"/>
            <a:chExt cx="1967040" cy="1778040"/>
          </a:xfrm>
        </p:grpSpPr>
        <p:sp>
          <p:nvSpPr>
            <p:cNvPr id="173" name="_s20528"/>
            <p:cNvSpPr/>
            <p:nvPr/>
          </p:nvSpPr>
          <p:spPr>
            <a:xfrm flipH="1">
              <a:off x="6194160" y="5170320"/>
              <a:ext cx="236520" cy="1382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_s20527"/>
            <p:cNvSpPr/>
            <p:nvPr/>
          </p:nvSpPr>
          <p:spPr>
            <a:xfrm>
              <a:off x="5684760" y="5171760"/>
              <a:ext cx="547920" cy="547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RTO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_s20526"/>
            <p:cNvSpPr/>
            <p:nvPr/>
          </p:nvSpPr>
          <p:spPr>
            <a:xfrm>
              <a:off x="6902640" y="5171760"/>
              <a:ext cx="237960" cy="1368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_s20525"/>
            <p:cNvSpPr/>
            <p:nvPr/>
          </p:nvSpPr>
          <p:spPr>
            <a:xfrm>
              <a:off x="7104240" y="5171760"/>
              <a:ext cx="547560" cy="547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GDP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_s20524"/>
            <p:cNvSpPr/>
            <p:nvPr/>
          </p:nvSpPr>
          <p:spPr>
            <a:xfrm flipV="1">
              <a:off x="6667560" y="4487400"/>
              <a:ext cx="0" cy="274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_s20523"/>
            <p:cNvSpPr/>
            <p:nvPr/>
          </p:nvSpPr>
          <p:spPr>
            <a:xfrm>
              <a:off x="6394680" y="3941640"/>
              <a:ext cx="547560" cy="547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_s20522"/>
            <p:cNvSpPr/>
            <p:nvPr/>
          </p:nvSpPr>
          <p:spPr>
            <a:xfrm>
              <a:off x="6394680" y="4762440"/>
              <a:ext cx="547560" cy="547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eaeaea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716360" y="4869000"/>
            <a:ext cx="863640" cy="647640"/>
          </a:xfrm>
          <a:prstGeom prst="leftArrow">
            <a:avLst>
              <a:gd name="adj1" fmla="val 50000"/>
              <a:gd name="adj2" fmla="val 3333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HOW MUCH TO BREAK THE SLIDE INTO A FEW SLIDE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357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3138480"/>
            <a:ext cx="8064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cc"/>
                </a:solidFill>
                <a:latin typeface="Arial"/>
              </a:rPr>
              <a:t>$0.00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Showt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049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cc"/>
                </a:solidFill>
                <a:latin typeface="Arial"/>
              </a:rPr>
              <a:t>Rehearse. Rehearse. And Agai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6851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eaeaea"/>
                </a:solidFill>
                <a:latin typeface="Verdana"/>
              </a:rPr>
              <a:t>Try one of these: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Or an emp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0480" y="1628640"/>
            <a:ext cx="7763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How to stop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Sleepines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Lack of Interes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aeaea"/>
                </a:solidFill>
                <a:latin typeface="Verdana"/>
              </a:rPr>
              <a:t>Bored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Use these tips for plenty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07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And Create . .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eaeaea"/>
                </a:solidFill>
                <a:latin typeface="Verdana"/>
              </a:rPr>
              <a:t>An interested audience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519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ollie, Paul and Michae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We’ve been doing food this term. We have investigated many interesting things. Now we will show you what they 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71640" y="765000"/>
            <a:ext cx="5686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100" spc="-1" strike="noStrike">
                <a:solidFill>
                  <a:srgbClr val="ffffcc"/>
                </a:solidFill>
                <a:latin typeface="Arial"/>
              </a:rPr>
              <a:t>Hi. We are the Food Group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18921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cc"/>
                </a:solidFill>
                <a:latin typeface="Arial"/>
              </a:rPr>
              <a:t>Food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7280" y="2491920"/>
            <a:ext cx="42591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oll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Mich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800" spc="-1" strike="noStrike">
                <a:solidFill>
                  <a:srgbClr val="ffffcc"/>
                </a:solidFill>
                <a:latin typeface="Arial"/>
              </a:rPr>
              <a:t>Style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Dulln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892160" cy="1996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5450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Arial"/>
              </a:rPr>
              <a:t>Show You C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488000" cy="377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822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cc"/>
                </a:solidFill>
                <a:latin typeface="Arial"/>
              </a:rPr>
              <a:t>Structure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32:53Z</dcterms:created>
  <dc:creator>Michael Bourke</dc:creator>
  <dc:description/>
  <dc:language>en-US</dc:language>
  <cp:lastModifiedBy>Michael Bourke</cp:lastModifiedBy>
  <dcterms:modified xsi:type="dcterms:W3CDTF">2009-06-08T19:38:26Z</dcterms:modified>
  <cp:revision>2</cp:revision>
  <dc:subject/>
  <dc:title>Slide 1</dc:title>
</cp:coreProperties>
</file>